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6A6-EB32-45D3-9F03-11FD25C3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B59-2C7B-4CE5-B8F3-7CFCB5B0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5E1-2D47-47BA-8B1C-ED4EB43F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1C7-8211-4E55-BC56-5BEDE3B9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E205-AE3F-4A05-977F-F9C9B438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AB7E-7C4B-49A9-BB5F-629DCF54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B9E8-2104-42C1-8FFA-EFF6A82F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D34C-A33E-4AED-B442-8AE3CC65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24D3-3B12-47C9-A8CE-F35885FD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B4E0-700D-402D-B41D-9A68BE9D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D389-6765-41ED-82E9-C96331C4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97E-3A60-44F7-BBED-2993BDB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7F36-3543-4405-BA74-76ADA56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A7FD-46F7-45CD-96CA-48247BE3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8D7B-B465-458A-97C5-5DFC9CD8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7F3F-CE49-42A9-9FFA-7B5504B1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12D0-4FCF-4544-806B-9DE1E46A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85BF-3F49-4174-B976-2A7AE6BA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676A-96B4-4069-8B00-BB0BC2CE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6B7A-3380-436C-9D53-8F45B78E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5C41-AC2D-4332-A259-033F7DF0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CE1A-D1AE-405D-ABFF-C202A630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49D-3A36-4927-8FB2-6F6CBB2C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B1AA-FA2F-411F-A52C-714EC777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E387-4D84-489F-8AB9-A8ACB07F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9101-F5E4-4F19-9D3B-4CBFEAF9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FC4B-4ECE-44B7-8D91-2907D29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7A1B-8BAD-498F-B2D0-DF69F32F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5440-35D2-452F-8B2A-4C0B44BB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EA7F-DDC8-4706-A65C-09FCFB24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5B5-3305-493F-A376-B58EBA4D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4D7-71AF-4FBC-A5FA-D66A0309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AB6-2EB7-4968-9A3E-98C809F2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A7B-3A1B-485C-BA09-6312DF27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9B0-FD7C-4014-98D1-5C16CC58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972-D01C-4719-91D3-08CAC412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1FC6-4471-41D9-A6D5-2C7B0AC70F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F182-6C6F-4BEF-B895-46475F8DBF6F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5C0E-BCF8-41B7-83D9-B9996B5B539E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iclog.blogspot.mx/2011/09/michael-porter-claves-para-una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560" y="1773000"/>
            <a:ext cx="7859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8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007f"/>
                </a:solidFill>
                <a:latin typeface="Arial"/>
              </a:rPr>
              <a:t>Objetivo para el estudi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ocerá las estrategias de Porter sobre el sector industrial y la competenci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nderá su fundamento y alcan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í mismo sus condicionantes y requerimientos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1.4 Globalización y tecnologí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conomía global se caracteriza porque los: bienes~  servicios~ personas~ ideas y habilidades transi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 libertad entre fronteras geográficas. Lo que expande y complica el entorno en que compite la empresa. La globalización es la interdependencia económica de los paises y sus organizaciones que se refleja en el flujo de b y s~ capital financiero y el conocimiento que cruza fronteras. Lo que lleva a que la competencia se caracterice por estándares que se elevan cada día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56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ecnología modifica la esencia de la compe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ia y aumenta su inestabilidad. Tres categorías de tendencias que impactan la competencia la: difusión de la tecnología y tecnol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ías disru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ivas~ era de la información y el creciente valor del conocimi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velocidad del avance tecnológico reduce el ciclo de vida de los productos y presiona al conocimiento~ hablamos de innovación perp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ua. Tecnologías disruptivas cuando su aplic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ión origina un nuevo sector industrial y afecta al exist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56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era de la información~ ahora acceder  y utilizarla de forma efectiva y eficiente se ha convertido en una fuente de ventaja competitiva para todas las industrias. Creciente valor del conocimiento (información~ inteligencia y experiencia) y aumentará como fuente de ventaja competitiva. La empresa debe crear rutinas para la difusión del conocimiento por toda la organización y se use donde tenga valor. Estrategia flexible. Aprender mejor que sus competidores y aplicar ese conocimiento a mayor velocidad y de forma más amplia qu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 Narrow"/>
              </a:rPr>
              <a:t>Estrategia es un conjunto de compromisos y acciones integrados y coordinados~ para explotar las competencias centrales y lograr una VC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 Narrow"/>
              </a:rPr>
              <a:t>Competitividad estratégica cuando tiene éxito en formular e implantar una estrategia que crea val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 Narrow"/>
              </a:rPr>
              <a:t>Ventaja competitiva cuando se implanta una estrategia que sus competidores no pueden copiar o la imitación resulta muy costos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Flexibilidad estratégica conjunto de capacidades que se utilizan para responder a las distintas demandas y oportunidades que existen en un entorno competitivo.</a:t>
            </a:r>
            <a:r>
              <a:rPr b="0" lang="es-MX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562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ientación Estratégic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.3 Modelos de liderazgo estratégi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delo O/I sugiere que el ambiente ext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o es el principal determinante de la estra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ia. Identifica industria atractiva y aplica estrategia adecu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 Narrow"/>
              </a:rPr>
              <a:t>Modelo de los recursos, capacidades y Competencias Centrales internas. Los conjuga como fuente de su V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562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ción de la Estrateg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ceso de planeación estratégic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. Definir la visión – misión y las m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. Analizar ambiente externo para identificar oportunidades y amenaz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. Analizar ambiente interno para identificar fortalezas y debilida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. Definir estrategia que resalte la fortaleza,    corrija debilidades, aproveche oportunidades y 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nsidere las amenazas extern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Visión – Mi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visión y la misión se construyen tomando como base la información y los conocimientos que se acumulan de los análisis de los entornos internos y externos de la organización~ concluyendo cuáles son sus recursos~ capacidades y competencias centrales (fuentes de sus insumos estratégico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visión refleja lo que el ente quiere ser y/o de aquello que desea alcanzar en última inst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misión fluye de la visión y detalla el o los negocios donde la empresa compite y a los clientes que atie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visión y la misión marcan el rumbo de la empresa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munican el ser de la organización a los grupos de inte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íderes estratégicos personas que dirigen la organizació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que utilizan el proceso de admón. Estratégica para lograr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ésta realice su visión y su misión. La ética colabora a qu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strategia se afiance y repercute negativamente cuando s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deja de lado como el caso Walt Mart. Los líderes predi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n el ejemplo y la ética paga. Es un recurso que se requ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nstruir solidamente en la organización. El manejo de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utilidades es otra fuente de ética y compromiso con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organización~ primero deben reservar aquellas ut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mprometidas con la cadena de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 Visión es el puerto al que queremos lleg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 Misión es lo que debemos hacer para naveg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asta allí y los Valores son los instrumento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nos permiten mantener la rectitud del rumb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rold Colina - Consultor Ger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visión ~ visión y valores conforma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eptual del negocio necesario para capit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s oportunidades que brinda el entorno. Son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se del model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Visión define cómo la organización, a través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fuerzo y del compromiso genuino de su 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caminará todas sus acciones a hacer lo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 que hacer en la creación del paquete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, logrando así su trascendencia. La 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giere una Misión futura a ser realizada en 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tio donde se quiere es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vee camino – genera entusiamo de dirección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enera confianza de liderazgo – ofrece criter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el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br>
              <a:rPr sz="4400"/>
            </a:br>
            <a:br>
              <a:rPr sz="4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tabilidad: forma de lograrla: maximizando los recursos, eliminando la ineficiencia, mejorando la productividad e implementando modernas formas de managment (calidad total , reingeniería, bechmarking 6 sigma que se vienen aplicando en todas partes del mundo). Porter señala que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no alcanza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para conseguir esa ventaja competitiva que nos haga verdaderamente diferentes en la industria y permita asegurar la más alta rentabilidad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rentabilidad depend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tanto de 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structu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l tipo de industria al que pertenece como d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osicionamien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alcanzado frente a la </a:t>
            </a: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petenci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Visión y misión respo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Qué. La razón de ser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Quién. Los futuros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Qué. Fin últ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ómo. Mecanismos y recursos a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ónde. Sentido de ubicación líd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ándo. Con sentido infinito visión 15 – 1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tributos del proceso. Calidad – innovación – e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alores Humanos. Más sentidos y relacion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lada en un solo párrafo. Reto – compromiso –Tra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cend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 Grupos de interés. Retribución que ofre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I Cultura organizacional. Valores y 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II Políticas y normas. Productividad – eficiencia – calidad – rent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V elementos de Estrate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actividad básica o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íneas de productos y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Elementos tangibles e intangibles precio 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egmentos de atención prioritaria y co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algunas posibles ventajas competitivas. Rh-p-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l Entorno Externo.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entorno externo influye en el crecimiento y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ntabilidad de la empresa. Para analizarlo y co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nderlo se divide en: General- Industrial y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etencia. Oportunidad – amena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loración. Identificar las primeras señale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endencias (T) y cambios (C) en el entorno (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nitoreo. Detectar el significado de Expl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nóstico. Preparar proyecciones de el monito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. Determinar tiempos y la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 (T y C en el E) que tienen para las 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 las empresas y su administr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l Entorno Externo.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 Entorno General sociedad entera (véase Doc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nto de Word). Variables Macro. Realizarlo s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bre México y Guadalajara. Ambiente: e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 dinámico ~ complejo o simple ~ hostil o hosp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lario ~ integrado o divers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I Entorno Industrial. Factores que influyen direct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nte en la empresa y en sus acciones y 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uestas competiti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II. Entorno de la Compe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jecución de la Estrateg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lan estratégico para toda la organización. Incluye todas las áreas. Y temáticas como calidad, cultura de la organización, la estructura organizacional, sistemas, costos, personal, venta o compra de empresas o partes de las misma. Los interesados y los órganos de gobierno. Circulos de decisión.  Sistemas de control Estratégic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responsables de marcar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ben conocer perfectamente cómo es la industria 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s toca competir y qué lugar ocupa su 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mpres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l mercado. 5 fuerzas y promedio de rentabilidad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dustria y de los particip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desempeño de se relaciona con dos factores: 1. (1/3)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uctura de esa industria y 2. (2/3) la posición de la pr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a compañía dentro de dich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ter comprobó que existen sólo dos formas de ob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a ventaja competitiva: a través de costos bajos y po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ferenciación. Estos dos conceptos son la base de t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 competitiva que, junto con el terreno donde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licados -mercado masivo o segmentos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ferenciar sus productos para poder establecer un precio más elevado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Ofrecer un valor exclusivo a sus clientes, a partir de características y tecnologías supe- riores. Lo que puede significar costos más altos, pero no es importante en la medida en que el precio final sea mayor que el costo extra de ofrecer un valor ú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2. Tener los costos más bajos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La empresa puede decidir pasar algunas de las reducciones de costos hacia los precios, pero costos menores significan mayores már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 ventaja competitiva sólo puede ser entendida observando las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ividades de la empresa y ser capaz de identificar dónde se encu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n las ventajas y las desventajas de la compañía. Por ello se requi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udiar qué actividades específicas proporcionan una ventaja comp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tiva en cuanto a los costos o a la diferenci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 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mpresas 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ben hacer otra elección en términos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"campo de acción competitivo". Y aquí nace el concept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nfoqu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Toda industria tiene una variedad de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 con necesidades diferentes. El ca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ción es decidir a cuántos de esos segmentos se el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rvir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cepto esencial de posicionamiento es elegi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1 Lo que se entiende por Estrateg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trategia es el compromiso de poner en marcha un conjunto de medidas y no otr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 elegir comprometidamente la forma de competir. Es el plan de acción para operar y dirigir el negocio. Es el compromiso con un conjunto de medidas para hacer atractiva al Ent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3640" y="1125000"/>
            <a:ext cx="85690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2 La importancia de la Estrategia en la Administ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 requiere una buena estrategia para una buena admón. Otro componente es la ejecución de la misma. Ambas hacen la Excelencia Administrativa. Sin estrategia se es una nave sin timón. Responde a cómo: crecer, construir clientes, vencer a la competencia, operar, mejorar el desempeño, fortalecernos y llegar a la posición deseada.  Desempeño  superior V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3 La orientación de la Estrateg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derazgo estratégico.  Desempeño sup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ior y ventaja competitiva. Valor al accionista, plusvalía y dividendos. Cuando tiene una re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bilidad sostenida por arriba del promedio es cuando logra la ventaja competitiv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1.4 Globalización y cambio tecnológic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lobalización de las industrias y de los mercados y la velocidad del cambio tecnológico son los dos factores que más contribuyen a la turbulencia competitiva. Hay que sacar ventaja de ello~ cómo comprendiendolo e incorporándolos a la organización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05:53Z</dcterms:created>
  <dc:creator>nathalie.ferrer</dc:creator>
  <dc:description/>
  <dc:language>en-US</dc:language>
  <cp:lastModifiedBy>omontesa</cp:lastModifiedBy>
  <dcterms:modified xsi:type="dcterms:W3CDTF">2012-10-26T00:34:03Z</dcterms:modified>
  <cp:revision>61</cp:revision>
  <dc:subject/>
  <dc:title>Presentación de PowerPoint</dc:title>
</cp:coreProperties>
</file>